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7.wmf" ContentType="image/x-wmf"/>
  <Override PartName="/ppt/media/image20.jpeg" ContentType="image/jpeg"/>
  <Override PartName="/ppt/media/image19.wmf" ContentType="image/x-wmf"/>
  <Override PartName="/ppt/media/image1.wmf" ContentType="image/x-wmf"/>
  <Override PartName="/ppt/media/image18.wmf" ContentType="image/x-wmf"/>
  <Override PartName="/ppt/media/image16.jpeg" ContentType="image/jpeg"/>
  <Override PartName="/ppt/media/image15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F827-ED22-46AE-9D1D-F63BD26D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547C-5730-4EC1-BAE2-C51973BC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8FE1-CBFB-4E3B-82A7-C17DE61F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E1A-0F22-4158-A745-55ABD757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1E8-C155-4D25-8A1A-302B80AD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6AA-6478-4D73-B765-90BFBBB3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B8F-461B-42DA-AFFD-2714A953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246-C85B-4214-9876-BC4E9775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B2F-8FDC-4D71-9284-704F9C21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1CC-4981-46EF-9900-A230EB3F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DBAE-2BE0-48F8-B3CB-F41A6E69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996-7D19-4227-9AB0-C88E6553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C49B-9F16-46E7-AB73-4A6CBFE52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914400"/>
            <a:ext cx="79246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Наркоманиите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Отстъпване под натиска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на “приятелите” може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да се научи у дома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80080" y="4425840"/>
            <a:ext cx="34639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2666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Много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често децата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скучаят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624640" y="3726000"/>
            <a:ext cx="3519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 семейства не са здрави: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одителите мислят само за собственото си щасти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цата на разведени родители често са лишени от присъствието на единия от тях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391520" y="2565360"/>
            <a:ext cx="13968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ок-музиката оказва неблагоприятно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влияние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502320" y="3147840"/>
            <a:ext cx="264168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ай-лесно поддаващи се на наркотици са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зи, които имат чувство за непълноценнос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зи, които се чувстват несигурн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зи, които се чувстват отхвърлен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000920" y="4002120"/>
            <a:ext cx="214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Какво да направят родителите?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124160"/>
            <a:ext cx="34671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 родители, и деца трябва да бъдат добре информирани относно наркотиците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483240" y="4143240"/>
            <a:ext cx="2660760" cy="271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4640" y="838080"/>
            <a:ext cx="769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Какво да направят родителит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200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аправете дома си приятно място за вашите деца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4586400"/>
            <a:ext cx="2604960" cy="2271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21120" y="838080"/>
            <a:ext cx="69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Какво да направят родителит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асърчавайте децата да си поставят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добри цели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456240" y="4100400"/>
            <a:ext cx="268776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762480" y="3276360"/>
            <a:ext cx="906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Помогнете им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да си изберат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добри приятели.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07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Наркоманиите са все по-често срещащо се явление.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2778120"/>
            <a:ext cx="21574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Насочвайте ги към интересни и полезни дейности в свободното време.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210360" y="2057400"/>
            <a:ext cx="2933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3200040"/>
            <a:ext cx="1249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бре уреденият дом, в който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юбовта свързва всичк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ленове на семейството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е най-силното средство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 предпазване юношит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 наркомании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940440" y="4737240"/>
            <a:ext cx="22035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Добрите семейства не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са в безопасност.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91320" y="609480"/>
            <a:ext cx="303516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Добри деца могат да бъдат увлечени.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19920" y="3276720"/>
            <a:ext cx="27414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590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Защо наркоманиите са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ай-разпространени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всред юношите?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85120" y="4222800"/>
            <a:ext cx="25588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29240" y="4629240"/>
            <a:ext cx="2714760" cy="2228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2120" y="2057400"/>
            <a:ext cx="8007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Любопитството към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овите и интересни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еща в тази възраст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е много голямо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одителите не са добър пример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 децата си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48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ного родители пият алкохо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ного родители пуша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ного родители гълтат таблетк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834080"/>
            <a:ext cx="26686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Юношите имат нужда да бъдат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разбрани: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 имат емоционални проблеми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мат нужда от любо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увстват се самотн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зети са от безпокойств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Юношите се нуждаят от окуражаване и одобрен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45120" y="4608360"/>
            <a:ext cx="30988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297144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Често натиска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а “приятелите”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адделява над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одителското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влияние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48520" y="4114800"/>
            <a:ext cx="252252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0:20:54Z</dcterms:created>
  <dc:creator>Pacific Health</dc:creator>
  <dc:description/>
  <dc:language>en-US</dc:language>
  <cp:lastModifiedBy>Borislav Ortov</cp:lastModifiedBy>
  <dcterms:modified xsi:type="dcterms:W3CDTF">2005-04-16T21:49:47Z</dcterms:modified>
  <cp:revision>11</cp:revision>
  <dc:subject/>
  <dc:title>No Slide Title</dc:title>
</cp:coreProperties>
</file>